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4D8-0DF9-4598-8FD0-CCB64723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201-4B71-46A4-9087-4B29862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BB6-F079-4859-AB6F-F390E51A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D09-58FD-4CDE-83FD-E990188A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EDA-8EAB-4F9A-95BF-6EE274F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EF9-5201-467B-8528-F4AF1AB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858-1AC9-43CE-B9DB-9FF624B2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B8B-A4D0-4770-B3EA-2601879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108-AD8A-4B33-814F-08A5A7AD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75D-1C93-4B9F-92ED-19ED104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A0A-529E-4E9D-B869-8505E6A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03A-B811-4B3E-B7A6-C3E95B1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A99-CFA8-42FF-9FDF-D33FFE13C0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خذ يا  ربّ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صوتك يدعوني يا صديقي الوديع نعمتك تغمرني, قلبك يجذب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يدك تنشلني,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ضطرم حبّا و اليك أتو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نظراتك تلهمني يا صديقي الحبيب وجهك موطني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193840"/>
            <a:ext cx="7093080" cy="740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خذ يا ربّي و اقبل منّ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كلّ ذاتي و افعل بها ما تش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حبّ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روح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نعمتك وحدها تكفيني. (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3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Personal</cp:lastModifiedBy>
  <dcterms:modified xsi:type="dcterms:W3CDTF">2008-04-26T08:27:32Z</dcterms:modified>
  <cp:revision>7</cp:revision>
  <dc:subject/>
  <dc:title>PowerPoint Presentation</dc:title>
</cp:coreProperties>
</file>